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624D-0311-4D44-AF1B-928CAB2FE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0D50-DA58-4DE1-B62F-D0DD4CB84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4F03-B103-4F63-B49F-4256F2AF7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FC9A-2697-4F98-B77B-AB758B667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982C-546B-4014-B94A-20CD702A3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676E-F7E5-45E8-8471-F21D94A4B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60FA-CADF-45FB-899A-6A7AC30FF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278E-2B9B-4660-846C-65BE025C6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35BD-C89D-454E-8C28-C6B5CBD1E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160E-162E-4E14-8A84-AAC50EF99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E636-EC97-4CE9-AD58-9FFF98F8A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43EE-1882-470C-B172-4C70E61E2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31A2-767F-46B9-890B-ACC17D64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24067"/>
          <a:stretch/>
        </p:blipFill>
        <p:spPr>
          <a:xfrm>
            <a:off x="8429760" y="626760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243480"/>
            <a:ext cx="8547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25000" y="658332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AEE  - Departamento de Águas e Energia Elétric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o Estado de São Paulo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2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EXIGÊNCIAS PARA APRESENTAÇÃ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 DE ESTUDOS E PROJETOS DE OBRAS HIDRÁULIC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A SEREM OUTOR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etodologias, critérios e parâmetros em hidrologia e 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724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PO -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retoria de Procedimentos de Outorga e Fisc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8680" y="5334120"/>
            <a:ext cx="68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Leila de C. Gomes,  Mario Nakashima  e  Francisco Gu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0CD7-A69E-46B4-976E-F648F9AF9D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0040" y="15228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04920"/>
            <a:ext cx="5791320" cy="1218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Casos em que há      </a:t>
            </a:r>
            <a:r>
              <a:rPr b="1" lang="pt-BR" sz="3600" spc="-1" strike="noStrike">
                <a:solidFill>
                  <a:srgbClr val="ffffff"/>
                </a:solidFill>
                <a:latin typeface="Arial Narrow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- Captação / Der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6553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=  média de longo ter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mínima média de 7 dias e TR= 10 an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%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 curva de permanência de vaz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505320"/>
            <a:ext cx="5715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ínima remanescente para jusant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 ou da seção de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mí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50%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876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267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gion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257800"/>
            <a:ext cx="7010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odologia: série históric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25 anos                     Estat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érie histórica &lt; 25 anos                     Regionalização 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91120" y="5562720"/>
            <a:ext cx="914400" cy="366480"/>
            <a:chOff x="4191120" y="5562720"/>
            <a:chExt cx="914400" cy="366480"/>
          </a:xfrm>
        </p:grpSpPr>
        <p:sp>
          <p:nvSpPr>
            <p:cNvPr id="134" name=""/>
            <p:cNvSpPr/>
            <p:nvPr/>
          </p:nvSpPr>
          <p:spPr>
            <a:xfrm>
              <a:off x="419112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5929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ECD0-196F-4A80-8692-143BF27D5C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0040" y="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VAZÃO DE ENCHENTE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371600"/>
            <a:ext cx="40388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orde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Área de dren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mpo de concentr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eficiente de escoamento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ensidade da chuva cr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de enchente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idrograma e seu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6248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bacia de contribuiçã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imites divisor; hidrograf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lvegue; locação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  e/ou   aerofoto / imag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cupação dos solos d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s de so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 do talv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3AE8-80CC-447D-9547-4DF9EFFDDB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004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371600"/>
            <a:ext cx="6933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cipitação total anual m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média de longo ter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de Permanência de vaz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aptação: vazão nominal; vazão média; faixa de vazões (UH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ço: disponibilidade afluente; mínima reman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ularização pel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81D4-8993-4FA0-9D6F-B1DBD48271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14600" y="152280"/>
            <a:ext cx="312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9144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098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Revestidas (aberta ou fechada), gabião, pedra argamassada, concr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e similare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20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                  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15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412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lâmina d’água correspondente à vazão de projet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6002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arragens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da altura do maciço, com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0,5 m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514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naliz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0481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Trapezoidal, em terra ou grama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..................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D583-B0AB-4228-8776-AC8332F017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20" y="91296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vantGarde Bk BT"/>
              </a:rPr>
              <a:t>Intermediá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Galerias ...........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idem anterior – canalizações revestida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Bueiros  ........... para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2 D  - -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72428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= lâmina d’água a montante da entrada do bueir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medida a partir da geratriz inferior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600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Aéreas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(pontes): curso d’água natural .... 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analização .........................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m anterio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581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 diâmetro interno do bu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9678-6302-466A-90B3-DED20E41EB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20" y="91440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vantGarde Bk BT"/>
              </a:rPr>
              <a:t>Rugosidade “n” – valores recomen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600200"/>
          <a:ext cx="4800600" cy="4073400"/>
        </p:xfrm>
        <a:graphic>
          <a:graphicData uri="http://schemas.openxmlformats.org/drawingml/2006/table">
            <a:tbl>
              <a:tblPr/>
              <a:tblGrid>
                <a:gridCol w="304776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po de Revesti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ch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bi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dra argamass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ço corru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cret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38080" y="579132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* Valores inferiores: compromisso do usuário na manutenção de “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4814-BBC7-439C-B2BE-F51E9C359F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CAN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: dimen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da canalização a montante e a jusante do trecho projetado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lanta: planialtimetria; implantação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o  traçado geomé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ões transversais topobatimétricas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undo projetado; linha d’água pro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ão tipo do canal proje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1DAB-62DA-4995-A2E6-870C2DBE16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TRAVE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o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a trave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para montante e jusante da travessia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ões transversais topobatimétric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undo projetado; linha d’águ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da travessia: gaba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5342-934B-4EE4-8B73-4E8878309D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BAR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440" y="1066680"/>
            <a:ext cx="41911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 de vertedor e solei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cota x área x volume d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ição dos níveis operacionais: mínimo, máximo 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mortecimento da cheia: vazão máxima d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mensões do vertedor de superfí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s de descarga das estruturas hidrául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carregador de 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1371600"/>
            <a:ext cx="4495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arranjo g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da área de inundação: in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s proprietários rebeirin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s, cortes e detalhes: maciço 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truturas hidráu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191120"/>
            <a:ext cx="25905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P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ras ope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contin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emer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9D3B-A9E3-4D73-812E-B12313B924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191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AEE poderá condicionar a outorga a adequações e/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a ações ou medidas estruturais e não estrutura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2004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306216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009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286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(para f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ANALIZAÇÕES E 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248B-531B-47AC-890C-3F43C846F6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mento do nº de outorgas (Decreto 41258/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ministração descentralizada do DA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paridade de critérios, metodologias, parâmetros utilizados pelos projet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ixa qualidade dos estudos e projetos aprese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olescência precoce das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ras de pequeno porte (mai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stão compartilhada: DAEE, Cetesb, Meio Ambiente,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1814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manda: uniformização de instruções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3D4A-B944-440E-B3FF-88F9F6452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1337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par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stipulados pelo DAEE (idem projeto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2900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Diferenç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estimada para C (C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vo às condições atuais de ocup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* risco maior – ondas de cheia catastró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3392-53A3-4721-BEAE-15AC3FCD4B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3809880"/>
            <a:ext cx="6248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ório fo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étodo 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onograma físico das obras 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04920"/>
            <a:ext cx="56390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Informações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371600"/>
            <a:ext cx="62485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alidade do empreendimento ou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acterísticas técnic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nta(s) de localização regional e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7366-ADB0-40D8-A2A2-DA62DADD0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15048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Vazão de ench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26708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isponibilidade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e superfí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6765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coam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mpo de Concen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nsidade da chuva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447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495680"/>
            <a:ext cx="2667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zão de 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CAC4-441D-4898-BC95-4BF9A78E51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274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6520" y="501480"/>
            <a:ext cx="221004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7080" y="1600200"/>
            <a:ext cx="2438280" cy="129528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25108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2510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43800" y="3063960"/>
            <a:ext cx="14889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Estat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08280" y="224460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8280" y="224460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3520" y="3027240"/>
            <a:ext cx="129564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di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9000" y="4059360"/>
            <a:ext cx="1119240" cy="103176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36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14300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50532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5784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90960" y="366408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90960" y="366408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5000" y="511164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5000" y="556884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3429000"/>
            <a:ext cx="148932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05240" y="4621320"/>
            <a:ext cx="175284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.C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Abc6 ou C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270240"/>
            <a:ext cx="1295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5200" y="5175360"/>
            <a:ext cx="1295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9400" y="50292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19400" y="50292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58672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8520" y="5632560"/>
            <a:ext cx="33195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I-Pai-Wu   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A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200 km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00360" y="1793880"/>
            <a:ext cx="5749920" cy="862560"/>
            <a:chOff x="1800360" y="1793880"/>
            <a:chExt cx="5749920" cy="862560"/>
          </a:xfrm>
        </p:grpSpPr>
        <p:sp>
          <p:nvSpPr>
            <p:cNvPr id="84" name=""/>
            <p:cNvSpPr/>
            <p:nvPr/>
          </p:nvSpPr>
          <p:spPr>
            <a:xfrm>
              <a:off x="1800360" y="1869840"/>
              <a:ext cx="1295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25 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969000" y="1793880"/>
              <a:ext cx="3581280" cy="862560"/>
              <a:chOff x="3969000" y="1793880"/>
              <a:chExt cx="3581280" cy="862560"/>
            </a:xfrm>
          </p:grpSpPr>
          <p:sp>
            <p:nvSpPr>
              <p:cNvPr id="86" name=""/>
              <p:cNvSpPr/>
              <p:nvPr/>
            </p:nvSpPr>
            <p:spPr>
              <a:xfrm>
                <a:off x="3969000" y="1793880"/>
                <a:ext cx="13716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Extens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dos d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5000" y="1869840"/>
                <a:ext cx="1295280" cy="46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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25 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7A98-E9A7-45A3-895D-A5A23002F5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295280"/>
            <a:ext cx="41148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Escoamento  Super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0,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971800"/>
            <a:ext cx="266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tuação A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6400" y="2971800"/>
            <a:ext cx="59436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onsiderar tipo, uso e ocupação dos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Base de informação: carta 1:50.000; 1: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foto aé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magem saté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álculo de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5403960"/>
            <a:ext cx="59436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tilizar previsão da ocupação futura da b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F0CE-2B2B-495C-8054-A9926F733C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362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5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48200" y="1600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(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76200"/>
            <a:ext cx="213336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Barra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124080"/>
            <a:ext cx="48006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5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3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88620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10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2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648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0 m  ou   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8200" y="236232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48200" y="3124080"/>
            <a:ext cx="19051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8200" y="3886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48200" y="4648320"/>
            <a:ext cx="28958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.000 ou P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0F18-1F6E-4B95-AE00-D19264AAB8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219320"/>
            <a:ext cx="2438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100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51814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analização, Travessia, Bu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666880"/>
            <a:ext cx="2438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18160" y="13795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2004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A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oderá ace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343400"/>
            <a:ext cx="6005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eir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estradas)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ural / sem inter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regime livre [2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verificar inundação a montante para TR =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anuência proprietá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077920"/>
            <a:ext cx="5410080" cy="990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Rural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– pequeno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–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erificação eventos +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33560" y="3137040"/>
            <a:ext cx="600552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Área urbanização densa:</a:t>
            </a:r>
            <a:r>
              <a:rPr b="1" lang="en-US" sz="3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0,75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C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rio confinado / edificações – adequação inv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7001-9773-44AA-A8CD-2D14004A5E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14400"/>
            <a:ext cx="54864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empo de Concentração -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962520"/>
            <a:ext cx="7924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(min) ................................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m   t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 min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[restrição IDF]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L (km)     = comprimento do talve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S (m/km) = declividade média 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* DAEE aceita / recomenda uso da declividade equivalente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Arial Narrow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28800"/>
            <a:ext cx="6476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Expressão do   </a:t>
            </a:r>
            <a:r>
              <a:rPr b="1" i="1" lang="pt-BR" sz="2800" spc="-1" strike="noStrike">
                <a:solidFill>
                  <a:srgbClr val="000000"/>
                </a:solidFill>
                <a:latin typeface="Arial Narrow"/>
              </a:rPr>
              <a:t>California Culvert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65480" y="2438280"/>
                <a:ext cx="29160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9AC5-C128-496A-8F49-40A5400C17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143000"/>
            <a:ext cx="579096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nsidade da Chuva Crítica –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,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6400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terminar por meio das equaçõ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tensidade – Duração – Freqü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senvolvidas pelo DA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“</a:t>
            </a: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Equações de Chuvas Inten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do Estado de São Paulo – DAEE, 1999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    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www.sigrh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DF7E-37F9-4C2C-9CDD-C2986FC88F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1:17:51Z</dcterms:created>
  <dc:creator>daee</dc:creator>
  <dc:description/>
  <dc:language>en-US</dc:language>
  <cp:lastModifiedBy>daee</cp:lastModifiedBy>
  <dcterms:modified xsi:type="dcterms:W3CDTF">2005-11-18T18:29:31Z</dcterms:modified>
  <cp:revision>46</cp:revision>
  <dc:subject/>
  <dc:title>DAEE  -  OUTORGA  EXIGÊNCIAS PARA APRESENTAÇÃO DE ESTUDOS E PROJETOS EM REQUERIMENTOS DE OUTORGA DE OBRAS HIDRÁULICAS</dc:title>
</cp:coreProperties>
</file>